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452D-6D89-4828-8D29-1717CFECB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struction.greenriver.edu/kmarr/Biology%20211/Lecture%20Notes/Cellular%20Respiration%20Webpage/Respiration%20Web%20Not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icro.magnet.fsu.edu/cells/mitochondria/mitochondri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acsbiology.info/Respiration.aspx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.miami.edu/~cmallery/150/makeatp/SLP.jp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parknotes.com/biology/cellrespiration/oxidativephosphorylation/section3.r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4C2-E06D-4418-A096-9874D78D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353C-8222-4EA0-B430-65A7B5E0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408D-B541-480A-9C67-5B88C171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9C0-C85D-4B07-AC20-0BD97022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5A34-595F-4D5A-B203-02661280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012C-88B4-49D2-A952-5CD9660D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D0E3-1298-4B15-9249-3789DE62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44A-9C31-4A9F-B987-B95AE7EB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B55F-8538-4352-B219-9154183F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3C6-1E49-4534-A35D-CC7DD929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21E-E410-43A9-963D-1B007D0F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F81-CB62-442A-8668-D40C1249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7CD7-5F86-457C-A228-5CF69B99E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1 &amp;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Glyco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break down one molecule of glucose into two molecules of pyru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TP and NADH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ate is transported into the mitochondria and is oxidized, forming acety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NADH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Citric Acid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tyl-CoA enters a cycle and is completely oxidized to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, NADH and FAD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Electron Transpor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DH and FAD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first 3 stages are oxid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nd a large amount of ATP is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74720" y="609480"/>
            <a:ext cx="7594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hou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19360" y="1981080"/>
            <a:ext cx="390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erobic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rganisms can extract energy from food without using oxygen using anaerobic respiration and 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lower amount of free energy release in anaerobic pat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rganisms are facultative an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survive, living organisms need to be able to take in energy from their environment and convert it to usable f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autotrophs transform light E into chemical potentia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troph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 on other organisms (including autotrophs) to obtain chemical potentia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s energy from food in the presence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ergy is used to synthesize ATP from ADP and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eukaryotic organisms are obligate 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5502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 can be produced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trate-level phosphoryl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rect formation through enzyme-catalyzed re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ative phosphoryl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direct formation through series of redox reactions with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the final electron accep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06560" y="1981080"/>
            <a:ext cx="3530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76360" y="1981080"/>
            <a:ext cx="438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s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ric acid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 transport &amp; 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1:56:34Z</dcterms:created>
  <dc:creator>rubina khan</dc:creator>
  <dc:description/>
  <dc:language>en-US</dc:language>
  <cp:lastModifiedBy>rubina khan</cp:lastModifiedBy>
  <dcterms:modified xsi:type="dcterms:W3CDTF">2012-10-18T10:19:34Z</dcterms:modified>
  <cp:revision>50</cp:revision>
  <dc:subject/>
  <dc:title>Cellular Respiration</dc:title>
</cp:coreProperties>
</file>